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637-99DB-4B90-AA0C-30427E0370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Израиля, основа герба Гру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54A7-B0DD-4FC9-A6D2-85B895A79A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4F6-4313-42E8-AAD3-40E101CD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126-B3D7-4016-9AF0-EDA679AD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0FA-B1A3-4235-BC19-0586F421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336-28E3-44A6-A20D-D6A3CF57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7E7A-1283-4CAD-818A-769BD4C1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8454-3E75-4CAA-A5F5-4AED7C3A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9345-331A-42FD-B85E-44B363A1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F1C9-CA0A-4D45-846A-47923560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E532-14B3-4EA7-A862-7BA1F3E6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C25C-BF68-4BCF-B7A1-1940197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1AF3-9AFF-4CE9-BA06-B9B895A3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E05-E330-4905-A8DE-D6CF995F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9AC4-751E-4D63-8825-7BB34906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79C7-FC8E-48ED-B88B-3FBEF61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89F9-9ABA-4A9B-ABC0-5086FB59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5DA9-5913-448B-97B9-BF4903DC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223D-9976-4A4E-B725-A939C5E1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62F5-35CE-4F06-ACFB-D8D42D21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3448-B8BE-4D82-955B-D25B50D5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3AE1-7A4A-4860-A24E-E2F552B7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4BA73-1CCD-49DC-B7DA-D5AB05D2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2C98-AF14-433D-843E-D442E025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334-DC6D-44E9-BBF6-DC22C6D2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1613-C83D-46A0-91CB-9CDA0672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EA1C-8A56-472D-8A34-776B8D59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72A8B-3E6A-4D0F-B6D1-4D0397A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DCDD-4E91-495C-B8DB-009F7176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DD11-466D-4CCC-99C3-367E741C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1577-0610-4D22-9470-C8A50F7F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3A4D-CF6A-4BF7-99B0-CC967CB5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043A-73BF-440F-8473-703E65A3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47E0-F7C2-4C54-BEAC-0898CE9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891B-8E24-4521-83BB-9D4AA4C4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559-7DCE-4AF6-AD8B-00268BCB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21AF-0CA7-4D87-A4F2-C9B032E0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3F48-40CC-4CBC-BC68-E480164B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5E78F-2C50-443A-BD5E-9A7DC787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851C-9B69-46CE-A436-9B260F7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CBDF4-5EB2-47CE-9890-915A8977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9D6E-D503-4B14-BD32-8245DD28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2359A-9EF0-4BC0-B4C6-A972DE37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517C-D6B0-403F-8E64-AC1F7B74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E5A7-0BC8-4C5D-844A-6C674453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2C799-8A97-4BBC-9199-47791212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E16-E324-4012-8C49-248902C7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EEB0-7C26-49FB-870B-3C7DAB07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AB79E-572A-4D26-B8C9-396D8CE0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5E5C9-36CC-4BD8-A7A0-8BC6A0AC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DD10-AE16-4F9D-B0AD-F0C77FC8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DB9FF-D265-4F3C-9753-21AF715B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2070-4E36-43EB-B017-0CD81724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9BFDD-7566-46EF-98B1-1D7799D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7E740-8DBC-49C7-B7AC-D205549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AD90-A703-43F8-8C9A-89C2CA6E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C8DD-6F1B-49EF-8231-03C19932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883-84B5-4B70-97A1-12EC0F41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7642-732B-42A9-91CF-7334CC5E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77980-0C6F-4F7F-8FC7-9101DE19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5C87E-686D-468E-947A-E7DAD24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4F8D4-61AB-4181-9204-FD77A2F9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DBDED-78A5-4616-9744-0525858D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9C701-38B7-42B1-A913-42A525CE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A5E6C-CBFA-4DC1-809E-38664D22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1D50C-E1D5-4F15-A61C-5DB21A9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3088A-8BE1-4800-A8D9-0B9F447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4D269-AD76-4036-97B4-B4E817EA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D75-00D0-49F9-9A84-6F84E4D8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0DF73-8E44-4BCF-90AD-9ABDC55F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78DB6-15D1-4164-9210-8EBD827A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C9F9-4843-4E6D-9DCE-3B9451D7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3BEEF-08A2-42C4-85F8-F6705D2B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A3DE-28DB-47CD-8EA7-D5890FF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CB16-5688-4940-8757-FE0661CB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FD8DC-4815-42F1-92C5-A8970FEC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016A3-C11D-4E3D-9A04-B2C42437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8774-7F9A-4F40-AC02-52B88925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37E90-5CAC-4613-8FDD-018C264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2BB-10B5-42EF-954B-C475D7C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68458-CE80-411A-8689-1007C4F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BAE9-5483-4DEE-945D-62941C2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36F0D-BAA8-4C9B-A5CF-84F90D7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64BE-A5DD-48FB-A386-F0F0C5D5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6CE07-522B-42CF-8B39-66BAD812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8CA-EF5E-4C5B-B9E3-C85E1C2C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4E43-1CEC-4DAC-A9A6-CCBDF2CD1A6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185-0FF9-4944-8265-87AFEF2F6709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088E-9954-4B7F-8A3C-D696E23CB569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C04B-CEF2-4358-96BA-8FE5F50FC9A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831-138F-4A02-86FB-AD151C93441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B089-8FA0-4FCE-BA03-058D4150FB9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928-265A-41FA-AE22-9DB5F5D8C66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573120" y="1554120"/>
            <a:ext cx="8510400" cy="34815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99680" y="514332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 исследования учеников 8 класса: Яров Иван и Шишкин Петр (транспортиры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5280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796240" cy="357192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3" descr="н.jpeg"/>
          <p:cNvPicPr/>
          <p:nvPr/>
        </p:nvPicPr>
        <p:blipFill>
          <a:blip r:embed="rId2"/>
          <a:stretch/>
        </p:blipFill>
        <p:spPr>
          <a:xfrm>
            <a:off x="1428840" y="4121280"/>
            <a:ext cx="4824360" cy="27367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4" descr="с.jpeg"/>
          <p:cNvPicPr/>
          <p:nvPr/>
        </p:nvPicPr>
        <p:blipFill>
          <a:blip r:embed="rId3"/>
          <a:stretch/>
        </p:blipFill>
        <p:spPr>
          <a:xfrm>
            <a:off x="7500960" y="428760"/>
            <a:ext cx="1262160" cy="9414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х.jpeg"/>
          <p:cNvPicPr/>
          <p:nvPr/>
        </p:nvPicPr>
        <p:blipFill>
          <a:blip r:embed="rId4"/>
          <a:stretch/>
        </p:blipFill>
        <p:spPr>
          <a:xfrm>
            <a:off x="0" y="142920"/>
            <a:ext cx="1994040" cy="114300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6" descr="ц.jpeg"/>
          <p:cNvPicPr/>
          <p:nvPr/>
        </p:nvPicPr>
        <p:blipFill>
          <a:blip r:embed="rId5"/>
          <a:stretch/>
        </p:blipFill>
        <p:spPr>
          <a:xfrm>
            <a:off x="6243480" y="3429000"/>
            <a:ext cx="2900520" cy="30002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7" descr="щ.jpeg"/>
          <p:cNvPicPr/>
          <p:nvPr/>
        </p:nvPicPr>
        <p:blipFill>
          <a:blip r:embed="rId6"/>
          <a:stretch/>
        </p:blipFill>
        <p:spPr>
          <a:xfrm rot="436800">
            <a:off x="3785760" y="2642760"/>
            <a:ext cx="2689200" cy="15001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8" descr="i.jpeg"/>
          <p:cNvPicPr/>
          <p:nvPr/>
        </p:nvPicPr>
        <p:blipFill>
          <a:blip r:embed="rId7"/>
          <a:stretch/>
        </p:blipFill>
        <p:spPr>
          <a:xfrm rot="6990000">
            <a:off x="1440" y="3340080"/>
            <a:ext cx="27842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63748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22" name="Рисунок 2" descr="Dodecahedron and Pentagonal Star.jpg"/>
          <p:cNvPicPr/>
          <p:nvPr/>
        </p:nvPicPr>
        <p:blipFill>
          <a:blip r:embed="rId1"/>
          <a:srcRect l="17968" t="6156" r="17968" b="6151"/>
          <a:stretch/>
        </p:blipFill>
        <p:spPr>
          <a:xfrm>
            <a:off x="1000080" y="1428840"/>
            <a:ext cx="7000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255600" y="73080"/>
            <a:ext cx="8437680" cy="13348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" descr="0_e068_93ce4ef2_XL.jpeg"/>
          <p:cNvPicPr/>
          <p:nvPr/>
        </p:nvPicPr>
        <p:blipFill>
          <a:blip r:embed="rId2"/>
          <a:stretch/>
        </p:blipFill>
        <p:spPr>
          <a:xfrm>
            <a:off x="0" y="1357200"/>
            <a:ext cx="5286240" cy="39531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3" descr="cfoto.png"/>
          <p:cNvPicPr/>
          <p:nvPr/>
        </p:nvPicPr>
        <p:blipFill>
          <a:blip r:embed="rId3"/>
          <a:stretch/>
        </p:blipFill>
        <p:spPr>
          <a:xfrm>
            <a:off x="0" y="4881600"/>
            <a:ext cx="1976400" cy="19764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flagThumb.jpeg"/>
          <p:cNvPicPr/>
          <p:nvPr/>
        </p:nvPicPr>
        <p:blipFill>
          <a:blip r:embed="rId4"/>
          <a:stretch/>
        </p:blipFill>
        <p:spPr>
          <a:xfrm>
            <a:off x="5286240" y="464328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5" descr="geo-ax2.png"/>
          <p:cNvPicPr/>
          <p:nvPr/>
        </p:nvPicPr>
        <p:blipFill>
          <a:blip r:embed="rId5"/>
          <a:stretch/>
        </p:blipFill>
        <p:spPr>
          <a:xfrm>
            <a:off x="6072120" y="1571760"/>
            <a:ext cx="3071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01:56Z</dcterms:created>
  <dc:creator>Катя</dc:creator>
  <dc:description/>
  <dc:language>en-US</dc:language>
  <cp:lastModifiedBy>Пользователь</cp:lastModifiedBy>
  <dcterms:modified xsi:type="dcterms:W3CDTF">2010-05-23T12:28:05Z</dcterms:modified>
  <cp:revision>12</cp:revision>
  <dc:subject/>
  <dc:title>Слайд 1</dc:title>
</cp:coreProperties>
</file>